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38D-C0E6-4F1F-823B-C023A2F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315-46DD-4418-8F72-EEAC900F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32D07-80B5-45AD-A560-0FB2855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A0C91-7D4F-4DB0-8096-234E050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7056A-0EFD-4DEC-B748-41A1FC2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73C30-01BA-4981-B471-3E253A08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00057-DECD-4884-BA54-BBA273A2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007A3-82DD-49EF-8D1B-10DA389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0B8C-CD9F-42AC-8338-A83FE5B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6F06-D069-48ED-A68B-03C41950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7493A-0E37-4E56-BB89-791F837B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662FB-4821-40BB-B334-9A87F94E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1E8-7908-4283-8935-1C829952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1BF07-978D-46A0-93F9-0041B12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0DDA5-D197-4A4A-A20A-BDCC1722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DA321-82BC-4872-B9FD-1D02DD3B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B99E4-6561-43C4-91A8-1280155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FD754-CA38-427F-A99A-E81E98F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23517-5B42-4DF3-978B-53F1207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949D7-ACB7-490B-BF3F-C233DB2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8027-FDA5-4709-B729-5E9FEF2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B758E-12CA-425F-8868-ED544BEE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1C10A-7B22-4AFF-A895-C1201D29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D5B-0527-4430-A701-33F04E85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7A3E3-CE00-4980-BF97-F5258C3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4030-4EB0-416C-B8E7-F938469B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7E1E4-5EE0-46F2-9B14-91E7560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3620-75D7-4D4E-AD8D-EFFD0F02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B9FF-56DA-4BE3-AA43-EFE7A194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BCC4D-039E-4629-B9B4-630E46D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B002-B927-4877-BECB-0ECEC85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39F17-064D-47EA-88EB-E1FCE3C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42AA-FEE0-45D0-AF61-98A975C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D3376-4122-42A8-9360-75E536D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88DC-E04E-4073-8902-CDB01539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49605-E203-4A0F-92A1-6A2AE6D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F36B-79D3-4929-8120-8C19CD5E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B4552-5869-4A4B-80E5-2996F30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A3CFB-DFD5-42A4-B897-3B326DE3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E82FA-9F1C-4EE7-BBD0-3DB9741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9E33A-B550-454B-ACC9-5F392F27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7B13-0776-4921-926C-3A3986B0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E3188-31E1-4E24-BD7C-53D72CD5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12F05-2B7A-4AC0-AF01-72EE6D4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7B951-A3B2-4EFD-96E5-55721D7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E74-9837-4327-9EB5-6F91F65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FCDCF-BD03-4E46-81C0-E21076E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6AF16-4103-46E8-AFD0-5E03ED8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F3707-C7E0-4327-8B98-FB369BC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7FFE8-05D3-4A7A-8653-D0B7CA19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2F706-3026-4C71-A105-5E3C83BC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E2408-1FBF-45E1-B76E-D3105A0D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23073-4A9D-4D77-BE95-B1E038FB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DF5BD-232B-464C-B8F2-5CA05507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1BA42-80A6-4C50-98EE-2C166B8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DF5AC-BCD7-40CB-A047-0DCB1AD7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24F4-3FD0-46D5-9E6E-7D40482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ADCE6-92A3-45E2-B2A2-0A36928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063EB-4FD6-45D7-A9CD-EC7F41D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B707B-DE6E-486D-B75A-7BEC742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3D63F-6352-45A8-B984-BF7B673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5B325-01E3-4051-A39A-72C0717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3271E-A9B5-4093-92DC-C12FF6D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7B7A9-F8B9-4FD4-8E64-86080E25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B2F18-F657-4260-A2CE-BBF610F0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EF1EC-9F8C-4C21-A63E-F907041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562E0-6AD1-488C-9BC0-544B41B9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498C-6D58-4E6C-831B-743A066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43A50-9093-4BBA-8949-40B21B4C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0292E-6221-41C2-A2EB-65D0BEFB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720B7-2D56-4CBA-BBEA-2B4FEBB2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B22BE-6F9A-4122-A337-578885D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F0565-FBD5-46A0-AF38-44C4E78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D374F-B7BB-4CE7-882B-1D21F59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38D9D-2766-4570-9E02-B7906BDF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D65C3-ED22-4CFE-A935-44E7E471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9F867-D6A1-4262-B9D2-E92186D9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95C22-44C6-4D2B-A368-BB72BC6B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4FA1-CF39-4A27-A063-4D17C14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0AA74-B92D-411D-B52E-5BCD073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86B0F-4E70-4ED6-BA69-9F0F7E0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A65BA-2400-4685-A4C5-4F537C9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CAE08-972E-44CC-8928-F553ED4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D59CE-E720-4128-BF21-5E90953B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A9EA7-5388-4CA4-B72E-1E0B6155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6F63B-044B-4903-88B3-DDF4C21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43805-0DF8-49E8-9738-11747BD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FA204-A4DE-402C-9330-784D07F5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994D3-65A6-4EBA-8F74-6B6831B1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C86-F327-4966-8E6C-76221A4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EEC24-451B-45F4-BEDD-FC508B03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22651-2763-4172-A503-4EFEBD3B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48C4F-FDC5-45CF-9129-D88971A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A7153-BFFF-4A74-815E-8E10871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BF73C-6349-4DF6-AB53-887D886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A4F58-F381-434C-A709-667148B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3C4CF-B021-4219-9275-24451C0E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372D1-D440-4D9E-A547-7AD1933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B482F-2668-414D-902B-FFA61B9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2D4FD-AB62-4F73-865F-89A0681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B1E-9648-4F42-AB60-88FD263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C7132-FE7C-4C3E-93BE-558AF6BA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1CDD3-3236-49B2-8232-E0C2A8AE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C03AC-E31D-4F8F-88A5-9204BE22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00134-1BC9-4B1A-80AC-901B05DD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A91B1-ACAF-439E-8F52-5E5646A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EBA03-EA45-400F-B370-8A3122C9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11342-F358-4916-9958-1AEFA34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EB589-AF13-480D-9942-F2FE960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76379-A202-458F-A243-3195D1F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41B0C-3612-4F09-961D-E54F8EF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6C-15AA-40BF-A392-A9C360E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D48-A321-4F62-AB02-93D2816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1C3C8-3527-49AD-8F66-DD016F9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C9171-6531-4EFB-9853-0936374D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CC6B0-4691-4B84-8EF9-8B37C48B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B75C3-12B7-42B5-A49A-EDC5D71F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10643-B70A-478E-9414-514E5FE1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18AD9-28A1-47D1-9D79-463450A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3E14D-5106-4572-ABF8-5FCA2CF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35A1D-B508-4666-9E14-35A1F73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AEA41-AF65-4925-9967-02727448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95EF9-50F0-4506-843F-3ECCD1E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10B-0038-4239-B08C-AEAC4A3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BAE60-E923-4189-AD53-7C117C8D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15B3A-0424-434C-9586-8530523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79872-74F6-4129-B608-378AF83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D285E-4B07-44A8-8DD2-63585F0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2C5D1-508B-484C-A4F2-D7997783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B96B0-287F-4E2A-B7EB-47DDF8FE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3563A-7AF6-41D6-ADFE-2AB855A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4C663-94C7-45AE-B05A-BD611BE0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AB326-B55C-449F-A4A8-3E67312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067FC-F345-452F-A745-BBBDEB0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FA54-FCE5-4AAE-8C2D-43B5D21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A196F-506C-4153-8133-9F9CEDBF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E69D3-E655-4655-81FA-4353EF2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BE96F-AE4D-47DC-ADAB-5FED3D7C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FAC10-819B-4206-AE16-2990195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A1835-2FB9-44EE-954C-54E8D3A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4432E-FC45-4A1B-A253-634D1F5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0F0F5-E95A-4E2C-8DE5-6EC5401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4CCBC-8DF0-4100-BDD1-A5AD1F63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2B03E-24FA-4438-BBA1-334936E5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E7B0D-5CF3-44E6-8B37-B6D10A1C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F3AF-2A5A-4102-85D3-E9953CB0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CF12A-A14F-4D67-A690-3AB2B04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6A4E0-3DD4-43B2-A11F-A18BAF4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FE971-91B8-46BD-9027-BC9CBB3B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ABB62-F79B-48BB-9A33-0ABB9D8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01F60-D402-4A0D-8FD8-E972CBE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ED0A6-3290-4934-A13F-6F06953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E0A76-1F04-44DB-A354-D0A5CF6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5743F-1A56-4EA3-A25E-2B61CFA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70B13-9514-40B1-A28A-53500F2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6B7D1-73FF-4B9F-A841-8BC389F5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62CA-EEB0-4700-8843-10B27E52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67950-BBFA-4FF9-A66D-01203EF3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2F4B1-930D-4804-BB35-C168319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21E21-E787-49BD-9403-E53CCDF1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94BCE4-0F5F-4B46-8DD6-50CEBE5F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21C35-0EAF-4645-9CB0-F3F20EC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C754D-A6DA-4F9A-9807-24D7789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820AE-AD22-46F1-8B6A-E3B569F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143FA-85DA-42F9-AB9D-B702BC7B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EB710-8C11-4FD3-8DDF-A01412D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AE016-EB15-4262-BFC5-060DAF7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E867-74E1-4B8D-9CD8-A3EADF5D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978BC-BACB-4CAD-AAEF-B1EDBE71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8937F-6130-4A22-A8B0-FB5F7AC7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DE341-ED0A-4AC9-808C-1FA32CEB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D1C6-1289-481B-95A9-B4CF002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FE1A-73F3-444B-BE77-1E5602FC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BD71-4A89-4845-A9A6-C4782A3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4AC7-2C6D-4567-B686-D2ED466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DA0-4371-42F0-966A-D961C75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DCAB-8A17-44A8-9C81-ED1351C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8248-9ABF-4D0F-8DA4-75FCF4D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A61D2-5E84-43C6-9FA2-23F77B6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B30C-DE97-428D-B2F8-4BDB97A3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4C4F-1645-4BA1-9EEA-8079A16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6913-E782-4A37-A336-EC887EAD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7702-0BC3-4FBC-B3B0-54D200D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12BD-A1F8-45D8-8094-7FC46102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6107-8EB4-4E4D-9C9B-46E14744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81CF-B4BB-450A-974D-A5E429D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C05-3381-4441-AF06-B8142A97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A971-B89F-4396-A88C-539E8F23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4F0F-C869-45AC-9595-841CE94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E21C-C2E2-468A-BBE5-2BDFC20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0367-5369-4C4F-B9E3-D8A12BE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AC61-A184-4EDD-AA5D-071A840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6FA28-7C46-499D-8AD8-4B78D48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AF90-4AA0-4E02-8F00-7C0492EA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1A38-50D7-4261-BF1C-78EEDA91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8400-2B01-4AD4-BAC6-A3A62D81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50D8-507B-4016-823D-5AC5B536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7E6-DA77-479B-B7A9-2DE58144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3A76-A8AC-442A-A888-FF07CBC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04EA-B6AC-46EF-A424-3607BE4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9721-FE28-4C83-8F06-9CF5BF8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C19B-98C8-439B-8C4D-58DF4F10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5A862-B44B-4003-9935-2B09DEE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4A38-BDF4-42C1-9873-6B1D822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7A3EC-E88C-4B98-84EB-95678A2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4461-4F51-4BAD-9075-79D77D7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9B89-D53E-443A-B547-56EAE862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2B8E-3721-4854-AAEF-2F3D47A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64C-7030-4B9D-824D-F437225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6DC0-00A5-427C-9444-8A87C365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C0760-98EC-47B0-8ECC-45C576A4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BF8C-28F8-4230-84C4-04C56DF2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BB26-8E7B-456A-8F6C-60C79A0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EBB5-7DED-479C-923D-B3CB117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E061-49AE-4DE6-A7F8-A1EEABE1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5D1A-6784-49D2-8C22-454062B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4ABA-E5D5-4019-A4AB-D4F58A99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602E-2539-4FA6-AE4D-0281086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D58B-6A98-4683-A96B-A434053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A25-A0CF-43CA-A223-907CD51A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66E2-AF84-4E9D-BBDA-C8AC8899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5E7D-5D27-4720-B55C-C4E1A781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9227-7405-45F6-8A81-699CCE75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D974-D898-413C-AC8C-6FA9E67C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21C48-D103-41BE-A56A-FACD496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1E3F-06E5-47A2-B2A8-8490276C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4803-ABEE-4F7D-A8ED-C4D5030E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FE356-0744-4692-9176-E00E9457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031F-07E6-43F5-8273-27931FA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A0A0-C337-422C-9034-4DB1FFD4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9A0-6A6C-4784-8EE4-117A761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56F9-65F4-493E-AA55-3E1C0AC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32AC-1FDA-45CB-A6C8-6DA9AF7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1BA2-75C3-4EFA-AD8F-B414E3D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96F2-DC51-4610-A5C9-C55477A7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3F6A-220E-482E-B99F-82304C3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0A5F-9360-4196-83FE-4F3502C5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EF48-542D-4B61-BFA3-E1220F9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3697-0D3D-4A61-BD21-636F42EE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A90E-B0B6-4ADB-BC17-BCB2F6BA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9A82-A451-45A5-BF35-BA820DC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CE9-5392-427E-B20C-6C86511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74AE-649E-43D3-901E-904FE75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F835-5119-4C29-BBF2-F493474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A58C-23D7-429C-A514-281644C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4D52-DC40-4FF3-A804-9D10228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8281-8428-4DF8-A350-2303F9DD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AAA1-E519-47C5-8061-580890A6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80E7-4894-4C7F-8DAA-39749899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8A3DE-8C84-4B14-AF58-ED0810A1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4024-A486-4737-9FE0-2AEA694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0CA69-8A4D-4E9E-93A4-FC69F2E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78B9-C190-4A36-B1D5-1EEBBEB6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FB0-17D3-4AB4-93FC-29DADA4AC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4418-5E7F-456B-A6C5-0E6079E57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3F4-3340-4570-A21F-C2A9A0734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8AB-EF01-44CA-BE06-B2756B5FB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8F4-A6E6-4671-A788-FC3C1CC4DA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1D7A-1237-45F2-8252-BE1286DB8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50D2-7BDB-4C35-995C-F6DB31AA3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DE9C-A2C6-4951-82CA-A0553A644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376-E786-4ABE-8BB2-7A5279FF7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40A-A2CB-4DE8-A30C-1C2AF0DDA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32F-642B-4AAF-8D20-B5F20450A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757-E17D-4C30-A858-E8123A34D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619-2106-4489-B4A9-60C1112B5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187-C2B5-429B-8933-0440F9A5C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052-E1F7-41E8-B5CC-1194528B1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6CA-DCBC-4E91-98AF-22CFC52A1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690-7EDF-4935-BAB6-A5F446D17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D88-7CCB-4AAA-8841-C093DE274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08E3-4864-40DC-BFCE-12C9B3FA9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0F9-E998-4174-B894-C0669BECC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2AD9-E216-4C51-ACAB-70259ECB1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D0AE-FFC5-4FDC-B64A-6D92F2F52E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A739-1CEC-485A-B05E-E40660B0B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1F04-3F33-43C3-892A-FC9C26DE2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ED78-A1B9-4777-9CDC-C03AF382B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9047-5DD3-4E5E-B640-755DD2CFE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629-EE30-42AE-ABED-35F302893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2476-83E3-4D7C-828B-C52D7248D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EFBA-3F45-44F0-A067-A0FDEF659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00C-3A11-4452-8349-2392E0397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981-A139-44EA-80B4-8F2716A5C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CDC5-A817-49AF-9A98-7681D863C2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4EB8-02C4-4C62-B4D5-931EAF476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F59-7F74-454C-8BF2-12C2E40F8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52E-B994-462A-A74F-459BE0D24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7FA-EC9A-4C54-9BEC-D7BC488A6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913-48E9-4312-9894-5D74C4CCC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2D3-7944-4084-9420-E24562462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683-89DB-4BA8-9B39-3B9643323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23920" y="2511360"/>
            <a:ext cx="6896160" cy="5335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471840" y="3924360"/>
            <a:ext cx="2200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" descr=""/>
          <p:cNvPicPr/>
          <p:nvPr/>
        </p:nvPicPr>
        <p:blipFill>
          <a:blip r:embed="rId3"/>
          <a:stretch/>
        </p:blipFill>
        <p:spPr>
          <a:xfrm>
            <a:off x="119160" y="1519200"/>
            <a:ext cx="8904240" cy="38196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0" descr=""/>
          <p:cNvPicPr/>
          <p:nvPr/>
        </p:nvPicPr>
        <p:blipFill>
          <a:blip r:embed="rId4"/>
          <a:stretch/>
        </p:blipFill>
        <p:spPr>
          <a:xfrm>
            <a:off x="1330200" y="4624560"/>
            <a:ext cx="1513080" cy="5587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1" descr=""/>
          <p:cNvPicPr/>
          <p:nvPr/>
        </p:nvPicPr>
        <p:blipFill>
          <a:blip r:embed="rId5"/>
          <a:stretch/>
        </p:blipFill>
        <p:spPr>
          <a:xfrm>
            <a:off x="4154400" y="4624560"/>
            <a:ext cx="1513080" cy="558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2" descr=""/>
          <p:cNvPicPr/>
          <p:nvPr/>
        </p:nvPicPr>
        <p:blipFill>
          <a:blip r:embed="rId6"/>
          <a:stretch/>
        </p:blipFill>
        <p:spPr>
          <a:xfrm>
            <a:off x="6919920" y="4624560"/>
            <a:ext cx="1512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962000" y="2290680"/>
            <a:ext cx="5220000" cy="227664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2" descr=""/>
          <p:cNvPicPr/>
          <p:nvPr/>
        </p:nvPicPr>
        <p:blipFill>
          <a:blip r:embed="rId2"/>
          <a:stretch/>
        </p:blipFill>
        <p:spPr>
          <a:xfrm>
            <a:off x="2570040" y="3903840"/>
            <a:ext cx="1570320" cy="5587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3" descr=""/>
          <p:cNvPicPr/>
          <p:nvPr/>
        </p:nvPicPr>
        <p:blipFill>
          <a:blip r:embed="rId3"/>
          <a:stretch/>
        </p:blipFill>
        <p:spPr>
          <a:xfrm>
            <a:off x="5378400" y="3889440"/>
            <a:ext cx="1569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15920" y="777960"/>
            <a:ext cx="8332920" cy="453240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716040" y="5430960"/>
            <a:ext cx="8190000" cy="12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042920" y="278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116000" y="544500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90440" y="1081080"/>
            <a:ext cx="8763120" cy="4695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3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